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297-63D3-4FC6-B0E9-BB53D4A6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CFA-D6F0-4857-A836-52204D5E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3D4-11AE-454B-93A7-15CFF13B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6A27-752F-4753-9262-C1A93D23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C2D-2CBA-4286-BFE4-7539954C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A54D-9355-40D4-B5B5-3BCD9C0C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5EBB-9210-40EC-B4BF-20F8A677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9E59-B0F1-44AA-BBF7-8207D9ED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A7B-46BD-49FA-A209-5C42E99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379-6EA8-418F-B9D2-B25E2110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971-2F8A-42A1-833E-3CF7613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77B-03EA-488E-A4E1-6EF33E8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15CF6-F264-41A7-A096-F8954B7E3C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ans 300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119160" y="176040"/>
            <a:ext cx="441792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3" descr="A black background with red text&#10;&#10;Description automatically generated"/>
          <p:cNvPicPr/>
          <p:nvPr/>
        </p:nvPicPr>
        <p:blipFill>
          <a:blip r:embed="rId1"/>
          <a:stretch/>
        </p:blipFill>
        <p:spPr>
          <a:xfrm>
            <a:off x="285840" y="223920"/>
            <a:ext cx="4084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216360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0" y="4078440"/>
            <a:ext cx="4491000" cy="946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A black and white logo&#10;&#10;Description automatically generated"/>
          <p:cNvPicPr/>
          <p:nvPr/>
        </p:nvPicPr>
        <p:blipFill>
          <a:blip r:embed="rId2"/>
          <a:stretch/>
        </p:blipFill>
        <p:spPr>
          <a:xfrm>
            <a:off x="320760" y="4363920"/>
            <a:ext cx="37051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55:05Z</dcterms:created>
  <dc:creator>Mike DeSocio</dc:creator>
  <dc:description/>
  <dc:language>en-US</dc:language>
  <cp:lastModifiedBy>Benjamin La</cp:lastModifiedBy>
  <dcterms:modified xsi:type="dcterms:W3CDTF">2024-10-19T22:57:31Z</dcterms:modified>
  <cp:revision>2</cp:revision>
  <dc:subject/>
  <dc:title>PowerPoint Presentation</dc:title>
</cp:coreProperties>
</file>