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5D0B1-9CE7-4D59-A1B9-719E7F41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9513F-AB03-4268-A08B-14776654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A5959-09B6-4944-880D-513B602F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DFFDF-948B-45BC-9BE5-F8727BF5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A683D-A458-4F93-A4A5-F1D8C9DB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F7754-AD8A-4A1A-9124-DCDFAC1B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1EAE-E99B-4B3D-8BAE-EE7E9174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30F83-A77A-43A4-BEAE-535F29C4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31ECD-8A47-4A64-9278-4C2F339F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9C87B-2CCC-45AD-BD41-5671EE84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F18AE-6038-4C2D-8521-8368A9DE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78E70-5B63-43F0-8688-8BCC26C5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7A8FB-82FF-4F81-9743-73AB9DC9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DD345-C030-45AF-932F-75E80FA2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29F03-8521-4377-B50E-B4EB1F7D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DCB9-4DA2-47E5-B457-22D95E1A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371B5-D229-49B5-B5CC-262445C0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2EB1E-7649-4AD0-9BA5-E4F3143B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A2C77-6714-46A9-8B71-94BA1A30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782BD-D290-4A46-B241-84B10C34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94C04-CB16-4D8A-A304-FEA69324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4AC9F-E0A4-4357-812A-F4A4ACF4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07B62-55AB-4261-BA99-3D780F23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9E04D-A8C6-4309-A1E8-EB9A257B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1F569-99B3-4C25-A6FD-BD19A91D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77746-CAB6-472F-8621-14EBDF10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A5883-8474-4849-8B0D-D977FD7F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F784C-35CD-4291-822E-0A6292B9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2E703-47C4-4756-B7F6-395375FB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AF9B0-EE4C-4502-A4EE-0E17ECA8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BE3A3-FFD3-4903-B3DE-63EF583A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470ED-0290-4F69-80FC-F860B983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D0871-A576-42A3-A731-1F1DC0AB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0C2-9384-4600-ADC6-D828B8B1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F9D-9DB5-4ECF-BA58-50FFEDD7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50ED-C5BC-4995-8797-3217916F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BCE8-69E8-4B68-83E3-3726EA91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AB5-768D-45A0-96BE-93AE1C5B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2C3-D341-406B-9C48-61607689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66D-C04D-48E9-85E6-DFAEA595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2251-160A-4770-9CE3-4A72D2C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A69-8646-4C94-BC74-F75C7061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D1A-4F5E-43F5-B8FB-2801CC2D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132-9949-4B22-B199-F87866E6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326-2840-42C0-A0FE-A8A0566A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32F7-788D-469E-8F3A-503FABD7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91FF-E521-4060-9C36-794A2F88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0EF9-5FE4-4EBC-A92D-FBF45974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B8D8-3FEA-4100-BF4B-08C95EB7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556A-0AEF-4DC2-8C7E-CD6FE612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80B5-80FC-4365-8B07-2D16C9A7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E5D2-4229-4EAA-BD18-08077ABB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DFDC-6A81-47BB-B02E-5A4EDF6F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35AB-636A-4A75-B188-3E4197C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B3DA-5918-4F13-BE9A-2B5CE4D6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D237-1E7F-4B4F-A3C7-D7231480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7FF2-4611-4A29-9979-A4FEA9DE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397E-9879-47F6-BED6-6DBAF8B8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5AE4-9B3C-4FF8-B2D8-C5240B82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A9ED3-9007-47C9-AC7F-B8A19943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516C-AC4C-4577-9983-853A1644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8831-D5E2-47CA-8A42-7B129F4A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D375E-3C64-4917-BC77-ECE8A329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8204-E509-472E-8B38-7283F5DC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9732D-7CA0-46F1-B281-819A4B3B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58BA-454B-4974-BE9D-BF6E9A5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3C793-9E2A-4F0F-9DF4-1732FE15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3CACF-4E83-42FF-856D-8F57C3A2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6C517-C1BD-4818-ADCC-6CBFA621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7A9E-A22A-4CD2-BE1D-D528C122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7B4D6-4E91-4126-B59C-48256ACC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6BAC2-942B-4186-ACC3-4AC4D254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FA643-FF3B-4614-A8D7-FE991005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DABE-C0B2-4A9C-A246-F524B59E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6DDA-96A4-4832-B5CF-A48EE3E7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DD01-1F0D-44DE-B1F2-FD7DA2A9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F0402-0046-4C4E-B038-3EEA53C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57026-0151-400C-BDA5-49ED30CC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9EA82-1A74-4068-BAD7-7F9F0406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4012-8F8A-4912-B3B6-E98FD50BD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BB7A-F368-4E38-94DB-3CAD8064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B17B9-7A72-486B-83E8-F25ABCEE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75FE5-F6FB-4F99-AA0C-41D2C15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D327A-DE40-4855-B177-20E6B660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88916-7384-4E3D-8644-B2BED02F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D22C4-2773-48D0-BAB3-909419AF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60C02-468F-4EC0-BA64-268829F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5B4AD-E31C-475A-A4B8-6BE74892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08EDB-39DE-4D0B-9F6C-AA46114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42854-49AB-453F-BFF8-6FD20593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55B4B-633C-4A0C-AE42-FCA7DA9B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5C725-EFDA-42DB-943F-99C63DF0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48B8-E8B2-4BDA-998B-453C92BB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64AEF-6ED7-4CF3-81BB-E29C1B9BE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B5AD0-A652-4736-9BB7-2D024BD0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28653-F917-47F1-A31A-CE4FB6DD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0E5D3-2BE8-4E40-A001-C0FFD0BBDD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4A710-E845-4A9E-B0DD-F37527EA5D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D4B7F-46D9-43BD-9238-BB7C852D63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4FEFF-21E4-47EC-9031-02CCAB293C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9BD42-61B3-47C9-88E8-5E002EFC7D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F872F-5BAE-4DC0-A1CA-AD44588723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43B3A-CB82-4B7E-840C-B6060B61FB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useo Slab 700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useo Sans 300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B2041-FFD1-49AA-AEE8-AAA73B188B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Museo Slab 300"/>
              <a:ea typeface="Museo Slab 300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285840" y="322200"/>
            <a:ext cx="4417920" cy="7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2" descr="A black background with red text&#10;&#10;Description automatically generated"/>
          <p:cNvPicPr/>
          <p:nvPr/>
        </p:nvPicPr>
        <p:blipFill>
          <a:blip r:embed="rId1"/>
          <a:stretch/>
        </p:blipFill>
        <p:spPr>
          <a:xfrm>
            <a:off x="452520" y="369720"/>
            <a:ext cx="4084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1131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Museo Slab 700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371600" y="28872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lab 300"/>
              <a:ea typeface="Museo Slab 300"/>
            </a:endParaRPr>
          </a:p>
        </p:txBody>
      </p:sp>
      <p:pic>
        <p:nvPicPr>
          <p:cNvPr id="448" name="Picture 1" descr=""/>
          <p:cNvPicPr/>
          <p:nvPr/>
        </p:nvPicPr>
        <p:blipFill>
          <a:blip r:embed="rId1"/>
          <a:stretch/>
        </p:blipFill>
        <p:spPr>
          <a:xfrm>
            <a:off x="139680" y="5586480"/>
            <a:ext cx="4491000" cy="1195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A black and white logo&#10;&#10;Description automatically generated"/>
          <p:cNvPicPr/>
          <p:nvPr/>
        </p:nvPicPr>
        <p:blipFill>
          <a:blip r:embed="rId2"/>
          <a:stretch/>
        </p:blipFill>
        <p:spPr>
          <a:xfrm>
            <a:off x="304920" y="5851440"/>
            <a:ext cx="43257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Museo Slab 700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Museo Sans 30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5T16:42:33Z</dcterms:created>
  <dc:creator>Mike DeSocio</dc:creator>
  <dc:description/>
  <dc:language>en-US</dc:language>
  <cp:lastModifiedBy>Benjamin La</cp:lastModifiedBy>
  <dcterms:modified xsi:type="dcterms:W3CDTF">2024-10-19T22:54:02Z</dcterms:modified>
  <cp:revision>2</cp:revision>
  <dc:subject/>
  <dc:title>PowerPoint Presentation</dc:title>
</cp:coreProperties>
</file>