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9E99-5EAC-4D9D-B846-AFAB255F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43BF-EA67-4C17-9E64-DB81544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D06E-C7A4-4E45-B313-E521AC0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93665-CF38-4E8F-8AEC-394CD93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CC10-1469-41EB-A781-A388BD6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84B6-6278-4A3D-8E9A-058D8A4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94B7C-B45D-4388-B62F-336AFB28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1CA19-CEEC-4909-BAEA-07FB93D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9CF6-A320-42E8-ADD3-A0F254D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83A62-8D37-468E-BAD7-BDEC5398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8ADC-5625-40A3-BB73-07DDD6B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6C8CE-B3DA-47B9-879D-CF55959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994B2-DFB2-413A-8C1D-6044295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C7B57-D888-4DBA-BF41-2DD5B796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6661-F188-454A-B9FF-2452B34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B963-144C-4250-B377-F234B94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FE30-F885-4141-B8AE-DA2409B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BB349-84E5-49D4-8AE9-744E3FD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301F-13E1-4D46-9693-D9B4F85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83D71-1D17-428A-81CC-C3505C1E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472C-C7F4-407D-AD90-CE6FDCB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FC985-1CDB-4953-83E8-BB1B1BD3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FEF1-4073-48A1-9C1B-1F12225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AB16F-759D-4E97-B5E1-0EE61D6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7745-6A0A-4FA9-B9A4-7950B4EB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9D2F-C9EB-4404-8893-C4F3FF8C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D5A6D-A7E8-4659-858B-80F7B823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3488-8A51-4FBC-A533-8C4F9A9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8924-0680-4510-8322-9BC37F7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B4D4-8D8A-48BD-8818-63A5C7E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04B3-7DD8-452E-BB2E-A2CA4E81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65448-F8AD-447F-BC15-90402ED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DECE8-08B6-4A8D-810F-5AAB1814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181-626E-4BC1-9987-9144ED4F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F4D-9BC5-4EFD-B2DA-B9C6E904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6DE-3340-4D62-99D1-EB0AD74E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4B2-426C-486B-B06E-2585070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B51-D203-4AA3-A07A-6546BA4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1B1-7448-4CEB-844A-B786375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696-2BA3-459D-A98D-FD4D94D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672-B3C1-4F5E-AC31-1FA91A7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204-6C56-4F57-8093-0588A78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6AE-F488-46E2-8D10-DF116EF3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CA8-44A9-4B13-8216-E1AC08C4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372-96A4-494E-90FF-7139C62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44F4-A254-475F-A278-B2C2084B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0962-D97B-4C93-A64C-CE4ECEB5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8B98-A871-4347-945D-F09AC550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1F52-A56C-4667-99DA-8D0E902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90E-F3D8-4A5A-8B97-E91680B1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018-59D9-40D8-B3A9-625860B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FA0-1A93-494D-98BB-7C834BC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B8DD-E739-445B-BB47-5E82EC7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F44-9232-4C83-835D-33AB10A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825C-3933-42CE-A8BE-2BCD0710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16D6-6DD3-4F3C-A2C4-143B698B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3E2-00E9-46A6-8E29-3A73806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4547-7745-43E1-B827-1057155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2175-EFEF-4C25-B961-75BCC19B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48BF-9FAA-4ECA-9E30-1C62FB48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DE96-5E9C-4C0B-8490-67ACAAE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27FA-75CB-4A2F-93E0-62352330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AA89-D26F-422F-9BAA-54D831E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6227-5705-4BC2-BD4E-0EDED35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6ADB-4CF9-4F20-9444-1980F00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97388-0DD0-4E35-A4E5-139C0530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7AB7-0CB3-42A0-B661-3BD52B4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3F87-A8C2-4251-A194-D9765D9E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1F2F-0A45-41A8-8814-7C85D7E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FDCD-FC8F-4154-AC15-2B1BFBDE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BD23-78AF-4B98-9BC1-D703373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FC05-851D-4CF8-94BB-016C89C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E581-081E-4240-BFDE-59440C1E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0678-6D11-4214-8A18-81AA68CD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9E1F-6D4E-41FD-9480-3E7B5B0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583E-E05F-40CA-92BB-1939588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06F7-089A-4502-B6BE-6286DF7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9FBE-08FB-44D4-9BAE-FCDBD6C6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3605-E512-4B38-BAED-F6C7D87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68FC7-40A9-4B82-8C2D-897FDC81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E1B5-8744-4230-8281-D2288A47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6D17-E652-4832-922A-5C4ED776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96A7-EF71-4D01-BA76-5317F8D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0D61-9B3E-4A7B-BB3B-84B54BB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18124-A9F8-4D12-93E5-52D0ACF2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C03E-101C-4173-AF83-095ED9D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AF45-96DD-4961-97F6-128C2A73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16D4-CC51-467B-8826-729D271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E80C-8CD1-4E3D-B2FC-3DA7FE2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66C5-0B07-4B56-B366-1D9FB81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A93C-6F22-4139-A42F-011115C4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706C-D79C-4AB8-A608-36A326E9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9B29-2962-4E35-913E-57EAD31E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2230-67BD-4555-98FA-9D65DA53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E4DCB-747D-41E9-9888-1B028EC7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920E-D08C-44BC-97DA-8827999A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9CEC2-C339-473E-A1F6-F19ECF13E7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7B106-120D-4245-8F44-D63874BB6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87535-C060-4928-B108-43DFC9BFB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FC74F-43D1-420B-BEBB-E03A2D7E8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22A7D-E1A7-4F8A-AEB4-E1F1C5E44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07A0A-0860-48F4-86A6-0C657BD4D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0336C-EF07-433E-A5C3-5FFCEBCA7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65304-3752-411C-9B17-9978D9265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lab 300"/>
              <a:ea typeface="Museo Slab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13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2887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lab 300"/>
              <a:ea typeface="Museo Slab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42:33Z</dcterms:created>
  <dc:creator>Mike DeSocio</dc:creator>
  <dc:description/>
  <dc:language>en-US</dc:language>
  <cp:lastModifiedBy>Mike DeSocio</cp:lastModifiedBy>
  <dcterms:modified xsi:type="dcterms:W3CDTF">2016-01-05T16:53:11Z</dcterms:modified>
  <cp:revision>1</cp:revision>
  <dc:subject/>
  <dc:title>PowerPoint Presentation</dc:title>
</cp:coreProperties>
</file>