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36C-7807-4E18-87B0-0561833C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AC1-429B-439D-80B8-AAD1B8F5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246-9838-4F9C-A76C-31DC93B7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71E-F2A0-42AD-BE67-A3517C59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596-A6C8-498D-9F79-923016A7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32C-9287-4A71-B8A6-6D38696A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445-4980-4938-A7E4-A401389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6D7-BB8D-46E0-95F9-2F857CD6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6B9-8F08-413B-8580-4018307F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704-6ECA-4DA2-B7D8-B7A5202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40F-0800-4C1C-995B-365958D1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582-7926-43CD-9C97-4EDA23B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7FF81-FA54-4B11-A0F7-18081A3B6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216360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55:05Z</dcterms:created>
  <dc:creator>Mike DeSocio</dc:creator>
  <dc:description/>
  <dc:language>en-US</dc:language>
  <cp:lastModifiedBy>Mike DeSocio</cp:lastModifiedBy>
  <dcterms:modified xsi:type="dcterms:W3CDTF">2016-01-05T17:01:19Z</dcterms:modified>
  <cp:revision>1</cp:revision>
  <dc:subject/>
  <dc:title>PowerPoint Presentation</dc:title>
</cp:coreProperties>
</file>